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539D5-6FD5-436D-9389-462C487A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77326-903A-4758-B9A0-834FBF02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D0E46-0FF0-44E9-BD6D-FBE8422E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6B8B-10AA-492D-A7BD-D44BFAFA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64C8-E32B-4B54-B56A-6E8747D0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44D1-3FDC-48CA-948B-BF520BBD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9771-2C10-4543-9392-C4B11331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E50F-0ECA-4B80-883D-0F37A2AF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5F44-2887-44A7-A0EB-C37D9201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B943-865B-4581-A808-3C2B3977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0AC9-6FCB-42E6-BACD-1CE8DC24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4087-D2F3-46DB-8A8E-4F45B155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B615-B665-42B8-8EA2-F466473E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CCE9-FAAD-4608-B866-BAA13ABF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462C-7721-4C4E-A037-8772735E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2FAD-FDD8-4FE4-BF18-2150AEEA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F3C4-AF17-40CD-894B-1DC348C0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A5024-6804-42A9-ACE1-475BB34D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EF123-CF13-4266-BA93-14828B22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F1B51-DE58-4242-8524-DD38AE18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5237B-E45F-456D-AC72-F46C3D14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162F7-8035-4E6B-A40F-8011EC46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42803-016E-410C-86BC-649097FA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F96A3-DE50-4814-8A8C-F2C47B7E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CFF1-3612-4493-9150-5B4F0058A6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72EA-9851-49E7-86BA-3C0E546F1F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apter 18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newing the Sectional Strugg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848-185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romise of 185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ompromise of 185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lifornia admitted as a free state (unbalanced Senat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w Mexico &amp; Utah open to slavery on basis of popular sovereign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Fugitive Slave Law of 1850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eeing slaves could not justify on their own behal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rtherners who aided slaves subject to fines &amp; jail tim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uthern gai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5" descr="reward2"/>
          <p:cNvPicPr/>
          <p:nvPr/>
        </p:nvPicPr>
        <p:blipFill>
          <a:blip r:embed="rId1"/>
          <a:stretch/>
        </p:blipFill>
        <p:spPr>
          <a:xfrm>
            <a:off x="3886200" y="4792680"/>
            <a:ext cx="24382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eat of the Whi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ection of 185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ocratic Candidate: Franklin Pie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ig Candidate: Winfield Scot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 Polked ‘em in ’44; we’ll Pierce ‘em in ’52!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g party was split on issue of slaver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erce wins the el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s the end of the Whig par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5" descr="220px-FranklinPierce"/>
          <p:cNvPicPr/>
          <p:nvPr/>
        </p:nvPicPr>
        <p:blipFill>
          <a:blip r:embed="rId1"/>
          <a:stretch/>
        </p:blipFill>
        <p:spPr>
          <a:xfrm>
            <a:off x="7048440" y="0"/>
            <a:ext cx="20955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Picture 4" descr="main"/>
          <p:cNvPicPr/>
          <p:nvPr/>
        </p:nvPicPr>
        <p:blipFill>
          <a:blip r:embed="rId1"/>
          <a:stretch/>
        </p:blipFill>
        <p:spPr>
          <a:xfrm>
            <a:off x="304920" y="1143000"/>
            <a:ext cx="868680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ierce, the Expansionis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irit of Manifest Desti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mericans looking for land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u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therners attempt to secure land (slaver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caragua- Americans take over here, angers Britai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veted Cub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ted by Southerners who saw it as best slave territory avail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stend Manifes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stated that if Spain didn't allow America to buy Cuba for $120 million, America would attack Cub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ain's continued ownership of Cuba endangered American interests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adsden Purchas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continental railroad  proposed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dsden Purchase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fferson Davis (secretary of war) had James Gadsden buy area from Mexi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853- ceded to US for $10 mill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railroad ran from California to Houston, Tex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4419720" y="4800600"/>
            <a:ext cx="27050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ansas- Nebraska A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ansas &amp; Nebraska territory to be decided by popular sovereign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ansas: slave st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braska: free st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ssouri Compromise forbade slavery in Nebraska territor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led Missouri Compromi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orted by Pier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gress Legislates Civil Wa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ansas-Nebraska Act wrecks 2 compromi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ssour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85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ocratic Party shatte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ublican Party form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ests against slav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luded Whigs, Democrats, Free-Soilers, Know-Noth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utherners hated Republica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pular Sovereignt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opular Sovereignty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overeign people of a territory should determine status of slav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pular appe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blic &amp; politicians supported i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al Lewis Cass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hosen as Democratic candidate for president in 184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5" descr="220px-Lewis_Cass_circa_1855"/>
          <p:cNvPicPr/>
          <p:nvPr/>
        </p:nvPicPr>
        <p:blipFill>
          <a:blip r:embed="rId1"/>
          <a:stretch/>
        </p:blipFill>
        <p:spPr>
          <a:xfrm>
            <a:off x="3581280" y="4800600"/>
            <a:ext cx="1652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ection of 1848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Zachary Taylo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hosen as Whig candid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 official stance on slave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owned many slav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Free Soil Party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gainst Wilmot Provis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vocated federal aid for internal improvemen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/ slavery, wage labor would wither away &amp; so would the chance for the American worker to own proper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ndidate: Martin Van Bure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chary Taylor wins elec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5" descr="220px-Zachary_Taylor-circa1850"/>
          <p:cNvPicPr/>
          <p:nvPr/>
        </p:nvPicPr>
        <p:blipFill>
          <a:blip r:embed="rId1"/>
          <a:stretch/>
        </p:blipFill>
        <p:spPr>
          <a:xfrm>
            <a:off x="7048440" y="762120"/>
            <a:ext cx="20955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old Rush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848- Gold is discovered in Californ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ld fever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d to violence &amp; dise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ifornia drafted own constitution in 1849 &amp; applied for admi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luded slaver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ould bypass traditional territorial st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 supported by southern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220px-P-1252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ctional Balanc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5 slaves states, 15 free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ifornia could establish precedent for the rest of the Mexican Cess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rried the sout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ss of runaway slaves also worrisome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derground Railroad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l chain of stations (antislavery homes) through which runaway slaves were spirited by abolitionists to free-soil sanctuary of Cana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rriet Tubm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th losing 1,000 runaway slaves per  yea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5" descr="335px-Undergroundrailroadsmall2"/>
          <p:cNvPicPr/>
          <p:nvPr/>
        </p:nvPicPr>
        <p:blipFill>
          <a:blip r:embed="rId1"/>
          <a:stretch/>
        </p:blipFill>
        <p:spPr>
          <a:xfrm>
            <a:off x="380880" y="4343400"/>
            <a:ext cx="3657600" cy="2117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20px-Harriet_Tubman"/>
          <p:cNvPicPr/>
          <p:nvPr/>
        </p:nvPicPr>
        <p:blipFill>
          <a:blip r:embed="rId2"/>
          <a:stretch/>
        </p:blipFill>
        <p:spPr>
          <a:xfrm>
            <a:off x="5410080" y="4343400"/>
            <a:ext cx="1762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natorial Giant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gressional Debate of 1850- called to address possible admission of California to the Un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Henry Clay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"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reat Pacificato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" proposed a series of compromises- North enact a stricter fugitive-slave law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John Calhoun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"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reat Nullifi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" proposed to leave slavery alone, return runaway slaves, give the South its rights as a minority, and restore the political balance. 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aniel Webst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proposed that all reasonable compromises should be made with the South and that a new fugitive-slave law be formed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gainst slave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lt that cotton could not grow in Mexican Cession territo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adlock &amp; Danger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illiam H. Sewar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senator of New York; antislav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gued that God's moral law was higher than the Constit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ident Taylor bent on vetoing any compromise between the North &amp; Sout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eaking Congressional Logj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ident Taylor died in 185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llard Fillmore became presid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gned series of compromis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(brief) Era of Good Feelings- talk of secession subsid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5" descr="220px-Millard_Fillmore"/>
          <p:cNvPicPr/>
          <p:nvPr/>
        </p:nvPicPr>
        <p:blipFill>
          <a:blip r:embed="rId1"/>
          <a:stretch/>
        </p:blipFill>
        <p:spPr>
          <a:xfrm>
            <a:off x="4267080" y="3943440"/>
            <a:ext cx="20955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01:45:10Z</dcterms:created>
  <dc:creator>emily.johnson</dc:creator>
  <dc:description/>
  <dc:language>en-US</dc:language>
  <cp:lastModifiedBy>Emily Johnson</cp:lastModifiedBy>
  <dcterms:modified xsi:type="dcterms:W3CDTF">2012-11-29T02:01:50Z</dcterms:modified>
  <cp:revision>4</cp:revision>
  <dc:subject/>
  <dc:title>Chapter 18</dc:title>
</cp:coreProperties>
</file>